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0C06-2F08-47E3-8C9F-5A1036884F23}" type="slidenum"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is vestibulum is elaborately painted.  One would pass through this narrow hallway from the street into the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2D8-9939-45A1-A6BF-9F9C5813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F9C-991A-44DF-B467-DB3743C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E2F-8F10-4DEF-A9FA-5471BEF2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1A3-FA3B-4A64-AABE-07554869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066-9339-4110-B72A-8812DE5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FF2-4879-4585-A583-2BE62E3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306-093E-4F95-AECC-CF0A0398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612-2D4C-4535-8549-CFAC514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B40-8A89-440C-B1CB-AC87793A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2BA-05FD-44B9-8F61-4F1CDF3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9D8-7236-47BC-BACC-14B5692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BDA-9F9F-4903-B408-B4EF041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5C6-E365-491E-974F-1CEABCA05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62120"/>
            <a:ext cx="7619760" cy="411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Domus Romanae et Insula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334120"/>
            <a:ext cx="56386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By:  Magistra Ashc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trium%20w%20buckled%20floor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7439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ff"/>
            </a:gs>
            <a:gs pos="100000">
              <a:srgbClr val="4242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trium%20with%20tablinum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80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1b"/>
            </a:gs>
            <a:gs pos="50000">
              <a:srgbClr val="b0003b"/>
            </a:gs>
            <a:gs pos="100000">
              <a:srgbClr val="51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trium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3248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trium%20w%20tablinum%20wooden%20shutters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92504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mpluvium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68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019920"/>
            <a:ext cx="883944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Compluv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ve%20canem%20mosaic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605304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00800" y="304920"/>
            <a:ext cx="2590920" cy="1556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VE CAN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286000"/>
            <a:ext cx="2438280" cy="5031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Pompeian Mosaic found outside the entrance to a house at Pompe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ubiculum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6477120" cy="4899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5486400"/>
            <a:ext cx="754380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tura MT Script Capitals"/>
              </a:rPr>
              <a:t>Cubiculum with Lect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1143000"/>
            <a:ext cx="2210040" cy="1739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tura MT Script Capitals"/>
              </a:rPr>
              <a:t>The Roman Bed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ararium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53060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609480"/>
            <a:ext cx="335268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tura MT Script Capitals"/>
              </a:rPr>
              <a:t>Larari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590920"/>
            <a:ext cx="3276360" cy="301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Shrine for the Household G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enates%20and%20lares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5943600" cy="58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2860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RomanLares and Pen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354480"/>
            <a:ext cx="243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Hearth and Cupboard gods worshipped by the earliest Ro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52280"/>
            <a:ext cx="8763120" cy="649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ABLINU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6000" spc="-1" strike="noStrike">
                <a:solidFill>
                  <a:srgbClr val="ffcc99"/>
                </a:solidFill>
                <a:latin typeface="Matura MT Script Capitals"/>
              </a:rPr>
              <a:t>The Master’s Study          The Wax Tablets (Tabulae) containing the family records and the Household Safe (Arca) were kept he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onstructed%20model%20domu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848720" cy="495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34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Matura MT Script Capitals"/>
              </a:rPr>
              <a:t>Model of a Roman Do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772480" y="6486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ouse%20of%20the%20faun%20tablinum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013600" cy="529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5791320"/>
            <a:ext cx="8534160" cy="1556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House of the Faun Tablin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house%20of%20faun%20mosaic%20floor%20tablinum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251840" cy="478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5410080"/>
            <a:ext cx="853416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Detail of the Mosaic Fl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ax%20tablets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788240" cy="519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5791320"/>
            <a:ext cx="8534160" cy="764280"/>
          </a:xfrm>
          <a:prstGeom prst="rect">
            <a:avLst/>
          </a:prstGeom>
          <a:solidFill>
            <a:srgbClr val="be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Tabula and Writing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lucernae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864560" cy="524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5715000"/>
            <a:ext cx="8686800" cy="825120"/>
          </a:xfrm>
          <a:prstGeom prst="rect">
            <a:avLst/>
          </a:prstGeom>
          <a:solidFill>
            <a:srgbClr val="81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tura MT Script Capitals"/>
              </a:rPr>
              <a:t>Lucernae, Oil Lam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psa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73600" cy="6292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81480" y="1066680"/>
            <a:ext cx="3733920" cy="37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atura MT Script Capitals"/>
              </a:rPr>
              <a:t>Scrolls in Caps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riclinium%20at%20pompeii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67840" cy="518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5715000"/>
            <a:ext cx="8686800" cy="82512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riclinium, The Dining 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riclinium%20villa%20of%20mysteries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380880"/>
            <a:ext cx="7772400" cy="8251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ricli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80880"/>
            <a:ext cx="8686800" cy="740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Matura MT Script Capitals"/>
              </a:rPr>
              <a:t>Roman Seating Arrangements in the Tricliniu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iclinium%20seating%20model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riclinium%20mock%20up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29680" cy="483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5334120"/>
            <a:ext cx="8534160" cy="1434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A Mock Banquet with Mensa and Tres Lecti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loorplan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391520" cy="586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ulina%20model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61400" cy="46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457200"/>
            <a:ext cx="8076960" cy="1099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tura MT Script Capitals"/>
              </a:rPr>
              <a:t>The Cul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ompeii.vettii.kitchen" descr=""/>
          <p:cNvPicPr/>
          <p:nvPr/>
        </p:nvPicPr>
        <p:blipFill>
          <a:blip r:embed=""/>
          <a:stretch/>
        </p:blipFill>
        <p:spPr>
          <a:xfrm>
            <a:off x="533520" y="228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5257800"/>
            <a:ext cx="85341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ffffff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Remains of a Roman Kitchen and Cooking Pott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ragic%20poet%20kitchen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500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56386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View of an Ancient Kitc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lasswar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5087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5715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Matura MT Script Capitals"/>
              </a:rPr>
              <a:t>Ancient Glassw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33216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57600" y="1295280"/>
            <a:ext cx="5334120" cy="3751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Matura MT Script Capitals"/>
              </a:rPr>
              <a:t>Roman Cooking Utensils in Bronz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oilets%20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481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334120"/>
            <a:ext cx="8610480" cy="131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The Latrina </a:t>
            </a: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(Ancient Roman Toilet)</a:t>
            </a: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Fun on a cold mor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oilet%20balneum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153280" cy="4821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10080"/>
            <a:ext cx="8686800" cy="825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 </a:t>
            </a: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Latrina Closeup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eristylium%20w%20plants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305920" cy="558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6019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Matura MT Script Capitals"/>
              </a:rPr>
              <a:t>Peristylium with Birdbath and Hor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eristylium%20other%20view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eristylium%20w%20fish%20pond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57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867280"/>
            <a:ext cx="8763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Matura MT Script Capitals"/>
              </a:rPr>
              <a:t>Peristylium with Piscina (Fish Pon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oreius%20tiburtinus%20entrance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191120" cy="628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89680" y="12708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685800"/>
            <a:ext cx="3581280" cy="52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e86a2"/>
                </a:solidFill>
                <a:latin typeface="Matura MT Script Capitals"/>
              </a:rPr>
              <a:t>Ianu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adb5"/>
                </a:solidFill>
                <a:latin typeface="Matura MT Script Capitals"/>
              </a:rPr>
              <a:t>Entrance to the house of Loreius Tiburtinus   in Pompe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eristylium%201%20half%20wall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44080" cy="47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440320"/>
            <a:ext cx="8534160" cy="11912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atura MT Script Capitals"/>
              </a:rPr>
              <a:t>Walled Peristyl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43"/>
            </a:gs>
            <a:gs pos="50000">
              <a:srgbClr val="b0ae5c"/>
            </a:gs>
            <a:gs pos="100000">
              <a:srgbClr val="86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ontana%20piccola%20fountain%20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99480" cy="529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91320"/>
            <a:ext cx="8686800" cy="10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99"/>
                </a:solidFill>
                <a:latin typeface="Matura MT Script Capitals"/>
              </a:rPr>
              <a:t>Outdoor Fount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75"/>
            </a:gs>
            <a:gs pos="100000">
              <a:srgbClr val="739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fontana%20piccola%20fountain%20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2433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952880" y="457200"/>
            <a:ext cx="373392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Frontal View of the Fountain and Statue.</a:t>
            </a:r>
            <a:r>
              <a:rPr b="0" lang="en-US" sz="4000" spc="-1" strike="noStrike">
                <a:solidFill>
                  <a:srgbClr val="ffcc99"/>
                </a:solidFill>
                <a:latin typeface="Matura MT Script Capitals"/>
              </a:rPr>
              <a:t> </a:t>
            </a:r>
            <a:r>
              <a:rPr b="0" lang="en-US" sz="3600" spc="-1" strike="noStrike">
                <a:solidFill>
                  <a:srgbClr val="ffcc99"/>
                </a:solidFill>
                <a:latin typeface="Matura MT Script Capital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733920"/>
            <a:ext cx="3733920" cy="1922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Note the Intricate Mosaic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001c"/>
            </a:gs>
            <a:gs pos="50000">
              <a:srgbClr val="a87e8c"/>
            </a:gs>
            <a:gs pos="100000">
              <a:srgbClr val="5400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utdoor%20dining%20area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4612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1523880"/>
            <a:ext cx="2819520" cy="2287440"/>
          </a:xfrm>
          <a:prstGeom prst="rect">
            <a:avLst/>
          </a:prstGeom>
          <a:solidFill>
            <a:srgbClr val="4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4a4a4"/>
                </a:solidFill>
                <a:latin typeface="Matura MT Script Capitals"/>
              </a:rPr>
              <a:t>Outdoor Dining A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utdoor%20lararium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35148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990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8288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668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83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17524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2514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57913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7913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79132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791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579132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5791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57913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57913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Matura MT Script Capital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rick%20domus%20at%20ostia%20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6480" cy="5116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5791320"/>
            <a:ext cx="86104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atura MT Script Capitals"/>
              </a:rPr>
              <a:t>Homes in Ostia, Rome’s Seaport T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brick%20domus%20at%20ost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aun%20house%20peristyle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5850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nsula%20of%20julia%20felix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70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oman%20insula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467480" cy="484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5486400"/>
            <a:ext cx="822960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atura MT Script Capitals"/>
              </a:rPr>
              <a:t>A Roman Insula (Apartment</a:t>
            </a:r>
            <a:r>
              <a:rPr b="0" lang="en-US" sz="4400" spc="-1" strike="noStrike">
                <a:solidFill>
                  <a:srgbClr val="ffcc99"/>
                </a:solidFill>
                <a:latin typeface="Matura MT Script Capital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estibulum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1044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7280" y="3048120"/>
            <a:ext cx="2743200" cy="289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ageway leading from main entrance to the at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85800"/>
            <a:ext cx="3124080" cy="14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ted Vestib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nsula" descr="Picture of an insulae"/>
          <p:cNvPicPr/>
          <p:nvPr/>
        </p:nvPicPr>
        <p:blipFill>
          <a:blip r:embed=""/>
          <a:stretch/>
        </p:blipFill>
        <p:spPr>
          <a:xfrm>
            <a:off x="228600" y="533520"/>
            <a:ext cx="8632800" cy="332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4343400"/>
            <a:ext cx="8001000" cy="109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Matura MT Script Capitals"/>
              </a:rPr>
              <a:t>Model of an Insu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ompeii.vettii.atrium" descr=""/>
          <p:cNvPicPr/>
          <p:nvPr/>
        </p:nvPicPr>
        <p:blipFill>
          <a:blip r:embed=""/>
          <a:stretch/>
        </p:blipFill>
        <p:spPr>
          <a:xfrm>
            <a:off x="4343400" y="380880"/>
            <a:ext cx="426708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049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tura MT Script Capitals"/>
              </a:rPr>
              <a:t>Atrium from The House of the Vetii at Pompe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ouse%20of%20the%20faun%20atrium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238880" cy="4305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029200"/>
            <a:ext cx="8229600" cy="15562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Atrium from                           The House of the Fa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pluvium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5257800"/>
            <a:ext cx="8686800" cy="8251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Close-up of the Impluv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trium%20house%20of%20amorini%20dorati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238880" cy="471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tura MT Script Capitals"/>
              </a:rPr>
              <a:t>Atria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02:14:46Z</dcterms:created>
  <dc:creator>Kim Ashcraft</dc:creator>
  <dc:description/>
  <dc:language>en-US</dc:language>
  <cp:lastModifiedBy>Kim Ashcraft</cp:lastModifiedBy>
  <dcterms:modified xsi:type="dcterms:W3CDTF">2004-02-28T19:26:29Z</dcterms:modified>
  <cp:revision>16</cp:revision>
  <dc:subject/>
  <dc:title>PowerPoint Presentation</dc:title>
</cp:coreProperties>
</file>